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26012"/>
        <c:axId val="13389802"/>
      </c:barChart>
      <c:catAx>
        <c:axId val="53426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89802"/>
        <c:crosses val="autoZero"/>
        <c:auto val="1"/>
        <c:lblAlgn val="ctr"/>
        <c:lblOffset val="100"/>
        <c:noMultiLvlLbl val="0"/>
      </c:catAx>
      <c:valAx>
        <c:axId val="13389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6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8E9-3115-4576-A8C5-D7A0F151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8A6-4957-4ADF-97C1-2BA7F15C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555-7406-48BE-9BA6-760EF940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4C2-16E3-42B6-AE12-F76497B4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FDE-9812-407F-9AC5-521F6D1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AA0-64ED-4E92-8142-1E446D6C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D04-1FD9-4BA0-A001-258C29B7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8DD-DFF1-4CA3-8F1B-203D439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C26-97F5-4118-956F-9231A628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541-C2FE-41E9-A8EB-EF0166AA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8DC-1F93-411A-A425-CC2747FE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B89-B68A-45DB-9227-0B1CAC86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F94B8-76D9-459E-84DE-7990C21734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