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73518"/>
        <c:axId val="92749007"/>
      </c:barChart>
      <c:catAx>
        <c:axId val="250735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49007"/>
        <c:crosses val="autoZero"/>
        <c:auto val="1"/>
        <c:lblAlgn val="ctr"/>
        <c:lblOffset val="100"/>
        <c:noMultiLvlLbl val="0"/>
      </c:catAx>
      <c:valAx>
        <c:axId val="927490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735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E1F-2E44-4678-8872-BB1A3FCA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A111-97F6-49D7-ADD5-74B87CEF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855-3DA8-4533-A814-2FA02A30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576-3A26-44AF-8D65-C41BD392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993-D664-40C0-9B90-559F8E31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7465-F6AA-49CC-AA61-20E12AA5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9D7-79AD-4C7E-9AD7-6E2FB066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DE9-C614-43FD-91F8-357D46C2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B8F-793B-4688-878E-B9122C76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324-3893-43C1-9EB0-65ECE5C1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DC70-9B08-4A5D-9156-FF3F50FD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F314-6230-4212-AC25-38DE5C56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83E2F-EC65-484B-B9A9-FBA850B3BF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