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73582"/>
        <c:axId val="90907859"/>
      </c:barChart>
      <c:catAx>
        <c:axId val="23773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07859"/>
        <c:crosses val="autoZero"/>
        <c:auto val="1"/>
        <c:lblAlgn val="ctr"/>
        <c:lblOffset val="100"/>
        <c:noMultiLvlLbl val="0"/>
      </c:catAx>
      <c:valAx>
        <c:axId val="90907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73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353-58DF-4DE6-B465-918C2A55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EA6-5734-48BD-8F24-15E4351A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868-7EF1-4BD1-9991-CEF53883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9F9-A7EF-4E86-BE31-44143F9B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0FB-E6DE-4B99-8095-376E2E75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2D2-FF02-40A8-BA84-98FE1329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961-892B-4B2C-AFFE-944B518E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A14-C08B-4F17-A384-A58C5499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FD7-5B3B-41E3-9848-DAB9085B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B41-C6BB-4966-8AD7-907D22C1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602-28ED-4197-B5F0-0BFE6AD4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2B7-A9CD-40FF-9B0D-33E24E1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00799-05E6-4FE6-A899-5DD33265D6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