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7452"/>
        <c:axId val="30752382"/>
      </c:barChart>
      <c:catAx>
        <c:axId val="5617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52382"/>
        <c:crosses val="autoZero"/>
        <c:auto val="1"/>
        <c:lblAlgn val="ctr"/>
        <c:lblOffset val="100"/>
        <c:noMultiLvlLbl val="0"/>
      </c:catAx>
      <c:valAx>
        <c:axId val="30752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7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597-3F58-4551-ADE6-95C6FFAE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C1F-9096-4237-84EB-7B471A3D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884-CA1A-4885-BAAE-083BA0BE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E05-4C02-4C0B-B7F5-D6C41E60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BED-12DA-442D-85C7-8F9737C9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EBF-9E8D-461F-80BA-09C6B4E6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C0E-AA12-40E0-BA9E-952FCD0B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FED-8363-490A-9768-B174F49D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C3A-E407-47F9-9893-1A58FD50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A31-12C6-40E2-8F7E-12A5976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405-8D6E-49C6-83A2-8ABCA9AD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CD5-23C6-4316-BE8A-D500BCEA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D839C-C89F-4365-A332-9BED0303BA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