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31827"/>
        <c:axId val="72197793"/>
      </c:barChart>
      <c:catAx>
        <c:axId val="35131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97793"/>
        <c:crosses val="autoZero"/>
        <c:auto val="1"/>
        <c:lblAlgn val="ctr"/>
        <c:lblOffset val="100"/>
        <c:noMultiLvlLbl val="0"/>
      </c:catAx>
      <c:valAx>
        <c:axId val="72197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1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24F-B88E-475F-8D3D-D74905AF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D1F-6EC1-4CB7-BFC0-B5F8D58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B26-D6A4-4655-9360-E7223311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35C-64B3-4763-8B8B-ECD8C6AB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790-7A1D-4105-B95D-DABDF01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8AA-7446-4718-B760-38D9919A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9AC-49C3-4A00-8F5B-B2272F7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7B2-885C-4C51-9276-24878C0E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A82-6644-4B4B-8D18-954ACBA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34F-0D1C-431E-8EFC-79E2ED8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785-BA71-4F3E-BCC1-C67E098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6C4-619B-4125-ACC7-650283A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F60E2-5FBB-434E-9804-6914A6C5EB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