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190460"/>
        <c:axId val="76461476"/>
      </c:barChart>
      <c:catAx>
        <c:axId val="54190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61476"/>
        <c:crosses val="autoZero"/>
        <c:auto val="1"/>
        <c:lblAlgn val="ctr"/>
        <c:lblOffset val="100"/>
        <c:noMultiLvlLbl val="0"/>
      </c:catAx>
      <c:valAx>
        <c:axId val="76461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90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3D5-621F-4206-8574-26ECCECA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7932-8A2D-461B-A9B7-738F173F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4866-6229-41B2-BB1F-0A4742A8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E84-108D-4EA5-A2BD-D83168D8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D4F-D1F2-47EE-87D8-48F0A19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91F-C34A-4EB5-A2C3-FAFF295D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C73-0069-42B4-B5B5-06AB5FB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599-C6E1-45FB-881A-167CED48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A98-51CB-4459-9D89-4D8CCD3F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1807-A863-49F8-A580-EFE07546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B70-CC59-4D48-A422-A7D8C07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07D-8875-48C2-A03B-B7736247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CE405-B4D9-4C92-A282-6718E4CD0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