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12417"/>
        <c:axId val="4326348"/>
      </c:barChart>
      <c:catAx>
        <c:axId val="47912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6348"/>
        <c:crosses val="autoZero"/>
        <c:auto val="1"/>
        <c:lblAlgn val="ctr"/>
        <c:lblOffset val="100"/>
        <c:noMultiLvlLbl val="0"/>
      </c:catAx>
      <c:valAx>
        <c:axId val="4326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12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56A-5985-4B5F-A5C2-A7C053DA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95C-1474-48E9-8784-A2A0EE3F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2A5-920B-4603-ACC1-DF5EC3B8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9D2-B880-4091-9326-C5381B0E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803-77FC-4B1D-9C30-FFA56AC1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2AF-76AD-4901-AB37-158FA746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7FB-F31C-4105-8688-95C4833F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FFE-3E5F-40B7-9763-D8755D49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04D-B6E2-47A3-8C64-86D4D3D5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FC1-5F01-40DC-9AF7-4E946B4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B21-8FBD-494C-9152-88059187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8B9-BF8F-4063-B0C0-550B4BA9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077F0-E40E-440B-AEA6-9CF4D6C7D3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