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6737"/>
        <c:axId val="139938"/>
      </c:barChart>
      <c:catAx>
        <c:axId val="80906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938"/>
        <c:crosses val="autoZero"/>
        <c:auto val="1"/>
        <c:lblAlgn val="ctr"/>
        <c:lblOffset val="100"/>
        <c:noMultiLvlLbl val="0"/>
      </c:catAx>
      <c:valAx>
        <c:axId val="139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6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5F0-9EC7-4FD0-AF34-38116BC8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328-9EF3-4763-84D8-253311B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42A-5F28-43E5-8801-42995EF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60E-CCE1-4BA3-B183-19522540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824-4911-4822-A9C6-3384A7D6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88E-63B9-4FC9-906B-1679DFBA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F1C-0B2E-4670-B9EB-C88079D0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6FA-C2E2-4668-B9B7-C6B6B443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9D5-E027-4F89-95AA-FC832F3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81B-A418-48BB-A647-C7690B4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003-E855-4646-ADC5-47993D8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D52-EE2E-42EB-9C30-EA708DE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AB5E7-EE75-40B7-A7DD-9965FBE111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