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96381"/>
        <c:axId val="40554227"/>
      </c:barChart>
      <c:catAx>
        <c:axId val="26596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54227"/>
        <c:crosses val="autoZero"/>
        <c:auto val="1"/>
        <c:lblAlgn val="ctr"/>
        <c:lblOffset val="100"/>
        <c:noMultiLvlLbl val="0"/>
      </c:catAx>
      <c:valAx>
        <c:axId val="40554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96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009-4D01-4538-A49E-D10110D7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230-413F-47A2-9C2F-88B1915A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E06-B3A9-4D45-8A11-9669E34F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872-67B2-41E2-A7B7-53A4E980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3E7-9EB0-4821-B5ED-42187046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4E1-97A5-47BF-81D0-F1A06005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40C-D213-4249-A22E-B7EEF1AC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BE7-1904-43DC-8FC4-10200ADF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DF3-1BE8-4ED8-BD15-6FF9B652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C99-6EE3-435E-82EB-7E7A72F0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8F3-A7D2-412A-BCE1-9BA28197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D68-8C13-47BE-B68F-DB4FD68D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FFA16-FD2B-4C61-BAB6-554B3F02D5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