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16764"/>
        <c:axId val="67570074"/>
      </c:barChart>
      <c:catAx>
        <c:axId val="70116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70074"/>
        <c:crosses val="autoZero"/>
        <c:auto val="1"/>
        <c:lblAlgn val="ctr"/>
        <c:lblOffset val="100"/>
        <c:noMultiLvlLbl val="0"/>
      </c:catAx>
      <c:valAx>
        <c:axId val="67570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16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57F-DF4B-4934-9A13-96BD705E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F98-4CAD-42B5-B151-030B4BAC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FB5-990F-440C-BD24-90B07357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F32-1D54-42BD-8C13-1ED11347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B77-5B00-4221-831C-7699B383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0D3-8AFB-4345-897A-3328EBD6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65C-C25C-48A2-9344-94E9816D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AD1-DF0C-43FE-9303-0AE2EB4A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1A0-6B8D-4376-9F71-6D70B50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208-BE7E-4BAA-973C-CC95028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06B-F83C-4BE9-93A5-3D22F6FA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FD3-700F-458E-A0B3-AFAB7397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3EC0D-A010-478C-91A2-7D57B92BB1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