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71049"/>
        <c:axId val="15984375"/>
      </c:barChart>
      <c:catAx>
        <c:axId val="29571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84375"/>
        <c:crosses val="autoZero"/>
        <c:auto val="1"/>
        <c:lblAlgn val="ctr"/>
        <c:lblOffset val="100"/>
        <c:noMultiLvlLbl val="0"/>
      </c:catAx>
      <c:valAx>
        <c:axId val="15984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71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EFE-DD30-4307-A4F6-62D27F22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D3A-A7D5-406D-A47D-B5A8C9F3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A0D-DFE7-4AD5-B12C-4E5DC0D9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AA2-3F75-4188-B7A6-2F958D24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B72-0E2B-4564-9767-31FE9FE3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D10-847C-49CB-A7A0-5595875C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B2F-36E9-45BC-BF0A-0BB0B66F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3F2-C3EA-4AB5-956B-947D1D87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F6F-B5D8-4AB8-80BA-03B81B13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99F-4415-48D0-9925-DD6A49E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050-0F65-471B-8C86-C241EE7D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D15-B52E-4FEC-B1E0-5D23F3A8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C95F1-D4E0-4617-BDC4-D3BED7995F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