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45374"/>
        <c:axId val="91593695"/>
      </c:barChart>
      <c:catAx>
        <c:axId val="90945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93695"/>
        <c:crosses val="autoZero"/>
        <c:auto val="1"/>
        <c:lblAlgn val="ctr"/>
        <c:lblOffset val="100"/>
        <c:noMultiLvlLbl val="0"/>
      </c:catAx>
      <c:valAx>
        <c:axId val="91593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45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761-083F-42FB-84EF-417C7250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2E9-0134-432A-8B9D-6715D89E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707-9A64-42E3-BD98-779A5655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442-83E7-41E1-A8CD-209FC12E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70E-1721-46DD-88D6-0C2FE4FB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442-0E80-4D4B-9137-7C3F36DB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083-23AF-4C09-B174-A8E97671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37B-654A-4335-88FE-9665730B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730-F4B3-4C3B-9CC7-F94F25D4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D63-8824-4CE0-A60C-9900C56D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777-DB71-4FD7-810E-72E64416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41B-46C8-4FD4-B592-66578C89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8953F-BFC3-4F9E-A931-C879D3BECA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