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3244"/>
        <c:axId val="44938812"/>
      </c:barChart>
      <c:catAx>
        <c:axId val="62324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38812"/>
        <c:crosses val="autoZero"/>
        <c:auto val="1"/>
        <c:lblAlgn val="ctr"/>
        <c:lblOffset val="100"/>
        <c:noMultiLvlLbl val="0"/>
      </c:catAx>
      <c:valAx>
        <c:axId val="44938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324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2E0-BC70-44BA-A464-086B3EE4E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88E4-66F2-49F5-A01A-84BE15FF6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F54E-8F48-4D44-A5D4-366A7D9F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E265-1F7C-472C-B122-A1A9E53BE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F530-BB42-4D8B-840D-B9C056A09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7A84-6C7B-471D-AC94-5E16A4D7D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95A1-C7DA-4E10-A139-2DF97066A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62CB-15E6-4E38-ACBA-B007108E8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2D8A-97D2-4BDD-B6E1-74D0ACF06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8D6A-AC76-4BD9-8AFD-C39AD709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25D0-D45F-4C48-832B-8D2E35D2C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1CFF-0819-46E1-8945-566F032E1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954CAA-3BF9-414C-A66A-4639B8DA7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