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91784"/>
        <c:axId val="43153947"/>
      </c:barChart>
      <c:catAx>
        <c:axId val="67791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53947"/>
        <c:crosses val="autoZero"/>
        <c:auto val="1"/>
        <c:lblAlgn val="ctr"/>
        <c:lblOffset val="100"/>
        <c:noMultiLvlLbl val="0"/>
      </c:catAx>
      <c:valAx>
        <c:axId val="43153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91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39A-B487-43B8-A90A-16FC4173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130-5223-40B4-9671-ED81E85C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EA5-BD5A-4109-9410-E7BF520C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B5F-5845-445D-A0E1-B8DC3538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F8B-3DA6-4969-9B14-19D6574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C95-C961-40CA-AF41-0CC1AF3B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2C3-43E9-425A-9B0E-6ECEAEF5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3CE-63B0-4414-A562-A4030B6D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935-5F48-4EED-847C-3862310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659-6289-4177-8794-3D8FB76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D68-5D9C-485B-99C0-631BD66D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9AE-850E-49B0-AF7B-4594B48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C3C01-9190-4232-BB5A-3545E36090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