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94040"/>
        <c:axId val="55534705"/>
      </c:barChart>
      <c:catAx>
        <c:axId val="54794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34705"/>
        <c:crosses val="autoZero"/>
        <c:auto val="1"/>
        <c:lblAlgn val="ctr"/>
        <c:lblOffset val="100"/>
        <c:noMultiLvlLbl val="0"/>
      </c:catAx>
      <c:valAx>
        <c:axId val="55534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94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54A-7F23-468D-AEAD-65F0472F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8A3-2DD6-42DE-B39E-362F9934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7CD-9B29-46F4-BC52-872458C3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167-1178-4043-B0FC-45BE083B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FE6-AB2E-4062-A3A0-FCE126ED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233-19D9-455D-BFE7-4239A4AE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C8A-9C7F-4F72-9884-9945FF1F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06E-37CE-4BC3-9AFB-A4DEB3D8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BE4-2DA3-4BBA-B29D-0CF545E3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B52-5A97-4645-9EA9-D459355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9A0-81FD-403F-9A4D-34500DFA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E49-C40A-4E29-9DF0-141FE9B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59687-6DF5-4FC6-BA41-7CAE9C9CD8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