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65019"/>
        <c:axId val="18519390"/>
      </c:barChart>
      <c:catAx>
        <c:axId val="61565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19390"/>
        <c:crosses val="autoZero"/>
        <c:auto val="1"/>
        <c:lblAlgn val="ctr"/>
        <c:lblOffset val="100"/>
        <c:noMultiLvlLbl val="0"/>
      </c:catAx>
      <c:valAx>
        <c:axId val="18519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65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739-01F2-4615-A2A2-951446C2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3C0-1DDF-4F90-BF09-C45360D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B06-E5BE-4065-A8C8-677517E8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6CB-4635-419C-BC96-870A269E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514-1E2B-4273-BE4F-CAFBB5F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DBF-80D3-4D3F-8C7B-2085268C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083-0D55-4F7D-A256-C2ACF300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B95-9847-4A50-BCFA-56D138E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0B8-97F7-4F10-B72B-811BC828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786-52F5-4E78-B9AC-4F09169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3E2-DEDD-474E-B02A-918F40E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71D-F535-48FC-8DB4-E1608C8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5124-546D-4C81-A547-AA38005C0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