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449403"/>
        <c:axId val="52812046"/>
      </c:barChart>
      <c:catAx>
        <c:axId val="934494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812046"/>
        <c:crosses val="autoZero"/>
        <c:auto val="1"/>
        <c:lblAlgn val="ctr"/>
        <c:lblOffset val="100"/>
        <c:noMultiLvlLbl val="0"/>
      </c:catAx>
      <c:valAx>
        <c:axId val="528120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494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6BA6-4833-4B9F-8F91-DEF8036E9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9C67-28AD-4FFF-B358-9DC60352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6512-7F53-4093-A592-9FFF208EF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A3D2-572B-4B40-91E5-B24C6AED5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884C-2F61-4155-A3EF-E53C748C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06AB-1DD9-4EB7-BA50-2C32639B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8A0E-B4FD-4ABB-8807-CA999D14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F528-9271-4D97-866D-78BC3D83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D98E-391D-4345-A133-5FF8831B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C12A-D1B0-4DC3-9C5C-F3D54412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D9C6-CD02-4169-BEFE-025E3D0A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29B6-A15F-4F93-852D-751C29AB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6AF09-EDAA-41F6-8210-198F3EBCF7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