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94176"/>
        <c:axId val="47428997"/>
      </c:barChart>
      <c:catAx>
        <c:axId val="53194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8997"/>
        <c:crosses val="autoZero"/>
        <c:auto val="1"/>
        <c:lblAlgn val="ctr"/>
        <c:lblOffset val="100"/>
        <c:noMultiLvlLbl val="0"/>
      </c:catAx>
      <c:valAx>
        <c:axId val="47428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4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0F5-DE40-41F6-BE3D-A6F60437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BFE-669E-4DA9-8892-EB14F23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D85-1EBA-499B-9491-01D17A23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9ED-D5CA-4824-82F9-CEDFF3C1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2FC-8DBE-4A5E-845E-96C4EE1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D56-A773-4E8F-89EA-602FBC8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5F6-E984-4DA1-A516-593B3E8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A61-8EA8-409F-B6EE-1A26C044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C7D-EB0B-43BC-B397-C2A15E0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88A-B76F-45DF-865E-EAF698C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94B-5FD9-441B-A4A2-ADF7D210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EA9-B778-47A6-AB01-6D09CB8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AFC48-14F6-4874-8905-381DFEA30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