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73407"/>
        <c:axId val="18480039"/>
      </c:barChart>
      <c:catAx>
        <c:axId val="10373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80039"/>
        <c:crosses val="autoZero"/>
        <c:auto val="1"/>
        <c:lblAlgn val="ctr"/>
        <c:lblOffset val="100"/>
        <c:noMultiLvlLbl val="0"/>
      </c:catAx>
      <c:valAx>
        <c:axId val="18480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73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1A1-3008-41AA-9F24-95809450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86D9-2A45-4A44-BC66-89069C20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020-F319-4855-8542-801B1F17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561-FD52-4337-ADC6-2C532803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4C2-292C-4C34-B493-16144194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800-7D50-4667-AF2E-7813D483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CD5-7E65-4657-96EC-74EF4777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FF5A-AD06-45E9-BC9E-AF252CA4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67A-AE2B-46A7-B090-58F139AB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FBD-123A-44D8-992E-A0906379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018A-2385-44D3-8F3E-E29F1AC5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1C7-8829-462A-8215-DCA0F5F4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4CFB6-B377-4BD1-AB91-1B6A1DB49F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