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44167"/>
        <c:axId val="43917974"/>
      </c:barChart>
      <c:catAx>
        <c:axId val="21441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17974"/>
        <c:crosses val="autoZero"/>
        <c:auto val="1"/>
        <c:lblAlgn val="ctr"/>
        <c:lblOffset val="100"/>
        <c:noMultiLvlLbl val="0"/>
      </c:catAx>
      <c:valAx>
        <c:axId val="439179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41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44E6-B041-4823-A42D-C095D152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8DC3-917A-4D46-A00E-84B91F0B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C9DE-D783-48A7-9698-6784EE101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92CF-A4F6-486B-929A-70D4AD13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DB49-F9F7-4C45-9B84-EAE17505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05D0-D4F4-444B-83DF-E53B7CAF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001D-0950-46CC-B602-456BD5FA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44AE-9264-488C-9890-9C83CF3A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84FE-3EA4-4722-855D-A32E5CE4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C704-B878-439F-8DE3-2098731E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A15D-F3E8-43FA-9046-3269B4FE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B642-41D2-4F0F-B44F-17F26C81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20CEC-AB09-4026-A511-3567220CAF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