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05669"/>
        <c:axId val="99896741"/>
      </c:barChart>
      <c:catAx>
        <c:axId val="47705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96741"/>
        <c:crosses val="autoZero"/>
        <c:auto val="1"/>
        <c:lblAlgn val="ctr"/>
        <c:lblOffset val="100"/>
        <c:noMultiLvlLbl val="0"/>
      </c:catAx>
      <c:valAx>
        <c:axId val="99896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05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DC8-ABE7-4572-88BC-E4A1CD6F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242-4B7A-442F-A97A-AC3A4E2B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8E2-FC31-4879-875C-C6A4CEA7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4B0-396F-4487-987C-C7CE619C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C21-C285-419C-8282-3404102C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AA1-80C7-4A1B-9888-F95C057F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298-1AF7-4434-B520-203B41D8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6FA-E50B-4829-BAD9-3556F976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E09-74F5-4D07-9AE5-6D9EDB29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028-A00C-4515-8452-334127D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89C-043C-416C-9928-DAAB1815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B35-02B0-435D-92AB-AB6C6C7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15B2F-3527-4F9B-87DF-7CDE305376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