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50670"/>
        <c:axId val="20366814"/>
      </c:barChart>
      <c:catAx>
        <c:axId val="70250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6814"/>
        <c:crosses val="autoZero"/>
        <c:auto val="1"/>
        <c:lblAlgn val="ctr"/>
        <c:lblOffset val="100"/>
        <c:noMultiLvlLbl val="0"/>
      </c:catAx>
      <c:valAx>
        <c:axId val="20366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50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C44D-EC1F-4A6A-8902-3009064F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A7C-B21F-44BB-B4F4-9EF0A1B0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46F-4551-4B93-9746-FC4C9AE1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153-CF45-423F-B650-2AD569BB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61A-27F4-49F4-8B9C-111C3D9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D83-E562-46F1-AB05-E51C6AE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ECA-D884-4558-B364-FB02A1A2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A00A-9539-44C3-9E53-311B71D7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6F5-A91A-4A48-95B2-B717FCB4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66B-477A-4831-BF70-E0A346F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9AD-BC63-4CA7-BD8D-9BE63002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E4F-163E-49FD-9F65-B3E4B9E8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06D35-1534-478F-8297-1DBE0EFF7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