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325836"/>
        <c:axId val="50946735"/>
      </c:barChart>
      <c:catAx>
        <c:axId val="973258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46735"/>
        <c:crosses val="autoZero"/>
        <c:auto val="1"/>
        <c:lblAlgn val="ctr"/>
        <c:lblOffset val="100"/>
        <c:noMultiLvlLbl val="0"/>
      </c:catAx>
      <c:valAx>
        <c:axId val="509467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258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E7A8-40C3-4DCE-8F1F-03FBA143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6EF2-66A9-4DCF-A679-1ABC3181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BDBA-50F4-432D-9536-7F47A59E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3BB4-2CC8-4949-8CE3-D3293BB5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9902-DD7F-4431-B598-E356EA21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7FCE-B274-4F7F-A1BA-DDE911F5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6763-EBB0-444A-80BE-37DDAC80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C521-13C3-4A70-BD42-3B233085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249E-683E-4E5B-B70A-6C403375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8A36-E724-4084-93AD-B63011FF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6DCA-261A-4843-B4AF-7B32F5E7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71EE-3677-499D-B112-E02EBD2D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88FE7-B3F9-4B87-BADD-F8406E4F9B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