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32165"/>
        <c:axId val="19288219"/>
      </c:barChart>
      <c:catAx>
        <c:axId val="169321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88219"/>
        <c:crosses val="autoZero"/>
        <c:auto val="1"/>
        <c:lblAlgn val="ctr"/>
        <c:lblOffset val="100"/>
        <c:noMultiLvlLbl val="0"/>
      </c:catAx>
      <c:valAx>
        <c:axId val="192882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321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41B1-6A64-4B95-BB71-9F59278B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54D-319E-493E-B8F2-8BDB57E6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2996-3039-4206-A1B4-B030957E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003-63EE-49D2-AE33-69B97E13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B3B-370C-4C03-AC40-02FF145A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899-F936-4F5C-8E53-825C3DDD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9C6-F338-4E33-8015-CD2D0BC3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0D48-7B48-40D6-A98F-670F368D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80C-790F-4CB3-B22A-3FED226A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FB4E-BF7B-499A-800B-68902615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C8F5-FD02-4AD3-8758-26E9D073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C4A-974B-4FBF-AC97-88E966C1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21319-DC85-4BD1-AF33-679AE1036F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