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523913"/>
        <c:axId val="91519535"/>
      </c:barChart>
      <c:catAx>
        <c:axId val="925239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19535"/>
        <c:crosses val="autoZero"/>
        <c:auto val="1"/>
        <c:lblAlgn val="ctr"/>
        <c:lblOffset val="100"/>
        <c:noMultiLvlLbl val="0"/>
      </c:catAx>
      <c:valAx>
        <c:axId val="915195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239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D6A-43C0-46E0-8EB8-57997D46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0A26-1399-408F-85B7-766A8908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2743-9981-4F34-8BD6-55527670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B87C-BE69-4829-870C-3F3AED03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361B-731F-46B0-B790-0281B0CE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614B-8194-40C0-8EC0-371EAABF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5EF-CA06-4AA1-981E-11723409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EBC9-7FBC-4CB6-9D3D-BA7CD0B1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87DE-088C-4EE0-B61A-BBC0B5EA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63CB-904E-45AF-8094-8E5BD625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9C22-D88A-4649-9960-D42F1E3E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78C4-6856-422E-BCD1-0AC629D7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85E4C-387D-4195-A53F-B128661ECB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