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17690"/>
        <c:axId val="24455881"/>
      </c:barChart>
      <c:catAx>
        <c:axId val="90117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55881"/>
        <c:crosses val="autoZero"/>
        <c:auto val="1"/>
        <c:lblAlgn val="ctr"/>
        <c:lblOffset val="100"/>
        <c:noMultiLvlLbl val="0"/>
      </c:catAx>
      <c:valAx>
        <c:axId val="24455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17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9BC-7955-4443-B02D-56F514B0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9C7-E847-44E4-BC8F-F3B617F5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A82-B29C-4539-A2DE-3B6CD9C8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5D5-07DA-4050-9438-433E1B8A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F12-C2FD-4116-B84E-E325762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F92-D9F2-4331-9AC8-3FDB2E8A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52B-0856-4B6A-A872-9263D22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020-8979-486F-BDAC-E1E77BD2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DFF-AC9C-43DD-88D8-DB46F0FB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E12-60E6-415E-83FD-4479AE84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DC9-9656-41FE-B1A5-9E138D6F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7D6-1565-48E1-B974-1B5A196A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9199E-FDA7-4D81-B8D8-B625B0C9EF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