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7576"/>
        <c:axId val="90535115"/>
      </c:barChart>
      <c:catAx>
        <c:axId val="4937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35115"/>
        <c:crosses val="autoZero"/>
        <c:auto val="1"/>
        <c:lblAlgn val="ctr"/>
        <c:lblOffset val="100"/>
        <c:noMultiLvlLbl val="0"/>
      </c:catAx>
      <c:valAx>
        <c:axId val="905351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AEA-EBFA-4EC5-BC5A-18A17E35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E89-ED75-4349-B89D-183162CC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2AA-988F-4D9D-A5F9-C99C6779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5B7-5965-4BDA-8CE6-4F49C6FF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DF1-970B-4FA1-BCA6-CA6BD081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544-9C6D-4CC1-B12E-7F5EC59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770-0436-4F0F-AA33-12B38925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5DB-5B99-4F0A-B706-D31D7B0F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B23-FBDE-4A66-8087-FF3A850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784-F22D-4B5C-AD14-26CBFB0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AE1-F0F7-43F6-967C-5C2F3687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6E4-0326-4596-A70C-9CEF791E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C6683-8E42-441C-95F0-D4E782FD4B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