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40900"/>
        <c:axId val="52361505"/>
      </c:barChart>
      <c:catAx>
        <c:axId val="36240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61505"/>
        <c:crosses val="autoZero"/>
        <c:auto val="1"/>
        <c:lblAlgn val="ctr"/>
        <c:lblOffset val="100"/>
        <c:noMultiLvlLbl val="0"/>
      </c:catAx>
      <c:valAx>
        <c:axId val="52361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40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CF1-AEB3-4B90-8B96-8B8147BD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E87-9C5B-4379-8A76-0A422163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C18-D829-436F-9C6D-E2BC5B2F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2F6-79FB-49B6-A5ED-57A5780D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001-B527-4DFC-AECE-E22C2D0A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D39-F571-4796-8D7D-9D23D839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F5F-C235-4C14-B008-35AEC9E8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E12-3922-4B4F-A5AC-2364C885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6F9-EACC-4752-A159-7F9AD292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9C4-999E-4DE3-BA44-B016F74F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F98-7D4B-4435-87F8-5EEB136B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F15-9AF5-4CCB-BA84-BA785BA4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1DA4D-7E4B-4276-A5B3-FBD51E7084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