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36511"/>
        <c:axId val="3579094"/>
      </c:barChart>
      <c:catAx>
        <c:axId val="13336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9094"/>
        <c:crosses val="autoZero"/>
        <c:auto val="1"/>
        <c:lblAlgn val="ctr"/>
        <c:lblOffset val="100"/>
        <c:noMultiLvlLbl val="0"/>
      </c:catAx>
      <c:valAx>
        <c:axId val="3579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6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FB0-CEAF-49A4-AC07-796D9D3E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7B5-D2CE-497C-B292-8B5A4690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BC2-73B6-41B6-BAF1-A2241E69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9D5-027A-40B1-8C82-CD078091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72A-7FE3-44C0-91BD-824176F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76D-93EE-4BED-8310-EB8BD3BA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E7B-39D3-48D1-838B-53262061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EC1-9C12-470F-BF43-BD9BF42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A2D-2CDE-4AD9-8EC0-6345389C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236-EC45-44FE-BFDE-76DDED6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0D9-D8DA-41D1-89F9-8B9C8546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571-297B-41BE-BAA0-D58F13DA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F072C-A724-4F68-8C94-2F16C4BE0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