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43077"/>
        <c:axId val="14229203"/>
      </c:barChart>
      <c:catAx>
        <c:axId val="67143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29203"/>
        <c:crosses val="autoZero"/>
        <c:auto val="1"/>
        <c:lblAlgn val="ctr"/>
        <c:lblOffset val="100"/>
        <c:noMultiLvlLbl val="0"/>
      </c:catAx>
      <c:valAx>
        <c:axId val="1422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43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262-4A6A-40B5-8906-713A1BE1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2B5-9D16-4D58-AF4B-4D54CD8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34F-B7CE-46DA-AC42-FE36111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085-D348-424E-8568-28893CA5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B66-766C-4BB4-84C5-7BEE487D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FB2-46B9-40BC-974A-E96D902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E71-F637-43AF-9549-26D54B04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72C-4653-4A83-9F1B-E443CF1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458-519E-4B0A-8AD8-297E86D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19E-1406-4F17-A385-0A31882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19B-3E25-4774-A8AC-AB06C83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130-B743-4168-813B-9AAD4D7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08DF5-92D7-4B4E-8D84-026FA6B88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