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773822"/>
        <c:axId val="66518211"/>
      </c:barChart>
      <c:catAx>
        <c:axId val="147738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518211"/>
        <c:crosses val="autoZero"/>
        <c:auto val="1"/>
        <c:lblAlgn val="ctr"/>
        <c:lblOffset val="100"/>
        <c:noMultiLvlLbl val="0"/>
      </c:catAx>
      <c:valAx>
        <c:axId val="665182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7738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1362-8B1C-4F98-92F3-DE65DCE7A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9B99-298B-4A46-9CB9-1D508D3D2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66BE-1366-48D6-B344-EF53826C1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F529-1BC5-4D52-BDBB-8F0DDD55A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CE1A-A798-4B09-9B07-DFE5E4761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521B-7E3A-4DCB-B452-05750083C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F41E-5CD9-49C4-B29E-F16EE30D0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6398-6DB8-47E7-BFEB-B02BB8BFC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D4DE-F5B2-4CA9-ABA3-D476B019C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F1E5-6ACD-42B7-8377-74BF54A3A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548A-262F-4416-BDE3-E588BFAC1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E0ED-EF66-4971-8F36-5BF5702F7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FC6BDB-5630-4300-A0D7-03B67239A5D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