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26910"/>
        <c:axId val="25266785"/>
      </c:barChart>
      <c:catAx>
        <c:axId val="99026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66785"/>
        <c:crosses val="autoZero"/>
        <c:auto val="1"/>
        <c:lblAlgn val="ctr"/>
        <c:lblOffset val="100"/>
        <c:noMultiLvlLbl val="0"/>
      </c:catAx>
      <c:valAx>
        <c:axId val="25266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26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7BC-1425-4F65-9247-4395A11C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B17-7D89-4547-A270-B74EBC3C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A28-2A8C-4862-BFEE-49D07396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6B0-8259-4988-B2AB-30DACDAF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F1F-16CD-420D-8856-5C990F15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682-7CAF-4F06-A36A-4D76C33A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CDC-A392-4B3B-8CC5-FA811885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65E-7F4B-4478-9FEC-4D78E65A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8A8-4099-4E7C-8B31-917F7E70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A1A-8870-4174-942B-63E60C9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4E5-37BE-421B-A104-F9FCD50D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2BE-B81F-4548-866D-01ED551B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0E4E0-B63C-4CB4-9A7D-261AE0705C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