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72367"/>
        <c:axId val="30268614"/>
      </c:barChart>
      <c:catAx>
        <c:axId val="69772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68614"/>
        <c:crosses val="autoZero"/>
        <c:auto val="1"/>
        <c:lblAlgn val="ctr"/>
        <c:lblOffset val="100"/>
        <c:noMultiLvlLbl val="0"/>
      </c:catAx>
      <c:valAx>
        <c:axId val="30268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72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9C29-9E43-4790-9467-5D3405AC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9FE0-AFDE-462A-9418-57D3901F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88B-BED4-4AFA-B750-A7DC5F8F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012D-A483-4302-BE5B-8335F111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4D2-424A-49C2-AEEE-AB03BCF1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ADF-3AA0-4209-A011-7C2FEFA5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738A-2D4F-4215-9464-8E2939EA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5BA-DDD7-4725-93A6-653A7A0C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0997-E9FB-4DAE-AC58-62A2A6CA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BA15-AC17-4E2C-ABCA-124F4EB2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A85-188A-4B1A-9424-B7BC9B9C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E976-E032-43DA-B204-8467D92C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3099E-433D-439A-BD8A-123E5DF949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