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64542"/>
        <c:axId val="83807996"/>
      </c:barChart>
      <c:catAx>
        <c:axId val="27364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7996"/>
        <c:crosses val="autoZero"/>
        <c:auto val="1"/>
        <c:lblAlgn val="ctr"/>
        <c:lblOffset val="100"/>
        <c:noMultiLvlLbl val="0"/>
      </c:catAx>
      <c:valAx>
        <c:axId val="83807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64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D44-6E50-4A65-BE76-4F88104E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876-AA8F-4BE5-9A71-0355F7D1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E5F-21BB-489C-8A37-8AC868A9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22D-DF9E-429F-992F-B5B12C31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C99-B659-47BB-8125-92A0D004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F8F-FAA8-4C26-91FD-9034BE5B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6EE-867F-4785-9FD0-6B6DD626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C9D-C790-4E9E-913F-0BA4B2D7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DFE-EC1A-4327-AC0D-4F279BE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752-C59E-418C-8B85-D62E9FB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BFC-AF88-4C40-8234-6EF4E7A6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F8D-C3FD-4685-90E3-C7C4687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D8197-EF6B-4105-AF1C-C7A4442E8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