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B47827-67F1-4339-8FD2-58F77513375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F0DE1D-5D85-4B0A-A325-CC7B169A8E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9D9E43-71FB-420C-BE28-9D56387B38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DDCC49-1565-45A2-B2B0-F12A1B71FB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7599CE-7BB3-4F98-B9BF-1B7E7A9E8D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FF60B7-6325-4915-8449-DAE366E55E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9BBD63-854F-489C-868B-A6795656D2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8ED9C5-66AF-4C1E-9EF1-591C8EBD74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2CA09A-458F-4C6B-A90A-E045123187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B0706D-7BC7-462F-AC7B-0B47F1C57E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1BCB85-AAAC-49A2-9A9B-848B6DC289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77414E-8964-4B83-BB8E-D60A764DAE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6D2E41-903C-407C-969D-DB8C6A356F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EA51AB-556D-4DE2-8125-9AA009949BB1}" type="datetime3">
              <a:rPr b="0" lang="en-US" sz="1400" spc="-1" strike="noStrike">
                <a:solidFill>
                  <a:srgbClr val="ffffff"/>
                </a:solidFill>
                <a:latin typeface="Times New Roman"/>
              </a:rPr>
              <a:t>July 28,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42CAA6-AC38-44EF-BCB9-7C245A4EDE9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6EBC0AD4-A74A-4478-A790-AD202E007EF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9668C7DF-94A7-4E23-B92A-EFF986045DD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D5F48DCA-B45B-4A77-827B-02E5A51BD9F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C22FB66C-E95C-4F46-A03E-D758ECB74AD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62B178FF-28D1-4D91-95FA-54F3ABC55B7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3D1CB030-2297-42D1-956E-98E621175A33}"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DFCBD02A-B451-469B-BE92-E89D86583E5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A691F6DD-A07C-4F9B-BD66-B607F7F0D51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13967A95-4FE3-4E56-BB03-F04A6F2B836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564FF1BA-49CE-42BA-AF89-75636D73CD5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41027D60-AB41-402A-94C0-8FA33D889F9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F28EFF28-600B-49A9-B310-B387714AD1F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23D4DDE4-8E29-4763-9143-7CFD585D1EC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55A2D5D2-678D-42A6-A9A0-92A58F9508B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