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F03DC0-A261-4937-A493-D6A453E5F5E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F91318-76DB-4838-B3DB-7340DD24A1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D905FD-579E-41B7-B586-375E23FDEF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68D366-A493-4D52-8C47-CF6984B3AA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4FCC95-40FD-4184-9954-27FA2EEEFE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877D6D-0840-40D1-A5A3-E84512E821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7CAA56-EF06-46B6-8429-58C772A7C7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CE3D23-8727-4ED2-91B6-0ACFC864D2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94CCDB-2807-4E83-B73D-68EAF06FF9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01C3A0-FA16-4EC6-A771-57485BFA97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3A17D4-BA5F-431C-ADEB-E66B9DA2C9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FB2516-D4C1-4DE6-93AC-4687551142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8D5CA9-38D7-4790-9877-574C1FDC07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7D6065-FC01-47AF-A8C3-251429ABD685}" type="datetime3">
              <a:rPr b="0" lang="en-US" sz="1400" spc="-1" strike="noStrike">
                <a:solidFill>
                  <a:srgbClr val="ffffff"/>
                </a:solidFill>
                <a:latin typeface="Times New Roman"/>
              </a:rPr>
              <a:t>July 30,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279F6D-F3E1-4767-9BC5-47A98E0A1A1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EF13736E-A2E3-4CA9-A0A1-F242DC6EF60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AA13C367-DE5C-4D9B-AF66-95771FB748E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225215F1-8EDE-4E1D-9F24-AF3C708C071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E782C3C3-A06C-4923-9461-84E61E337CD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8275AC23-EFE0-4876-9AF6-75A46DE5EC0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D12B46D2-5BDB-4782-899F-BE7C8B40774D}"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B4A2E8EF-3E83-434D-9085-1AC69AE8E98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9C720D73-A8D7-4C27-9CF5-C7D50F0AB3F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65BCDF06-270E-4FE6-8156-0F4785D92EC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A2A2AD8E-188E-4BB3-A136-58C64A3D5A3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D875C20C-6878-42C5-8E0C-7031BDABC08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52E3883F-2DB8-41CB-BCA1-1E6B9487D18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99A349C3-B1E3-4228-8732-23A09432A10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1B287A80-0A45-4ECB-B743-383EB909EF7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